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25D7-14AA-44B9-8419-561F1F1BD6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0ED3-B3A0-4204-9BA0-19775EAD86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8245-F7F1-4C55-8390-812295E1D6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1075-C382-491C-A6F7-0C86492247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45C8-1C49-4D6A-9EDB-E0684771AE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6A14-8492-4417-A8E2-A52170B24C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4AA4-C995-423A-9448-D65FC25577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F5B9-D288-4C03-8B1D-208FCDD55A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9506-4BFF-437C-AE02-6C72456890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3F57-AA9E-4476-8E31-101001085A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3FA5-8210-4164-AB33-371E3C4CE6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0754-02D8-40F3-807F-D56C81371D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C4E2-AD5D-4305-98FD-1E9E6669C6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415C-74B8-48EC-9537-2A770EF444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7FC-FD08-4BDD-A1A5-005057C4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951-7305-4D20-A696-6B0CAE98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125-5966-478F-8B88-94AD0807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1F7-21CA-46E5-8516-D1905785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8BB-1616-48F6-9A38-8B80D786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81C-2C87-4BB5-B934-D3934D27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D55-98D4-4F38-887A-1FEB2035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278-67E1-40DF-B5EF-3DDFFDED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6A9-F201-4267-A3CE-9B850436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5C5-FBE1-4735-AD1E-3C472998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17A-78EE-41B5-A42B-633C4394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2BC-DEBE-430F-969A-72C41DBE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6540-4791-4070-8094-36FFDB8B172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9340-D9A3-400B-B0E5-F0B8D8DC20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Рисунок1"/>
          <p:cNvPicPr/>
          <p:nvPr/>
        </p:nvPicPr>
        <p:blipFill>
          <a:blip r:embed="rId1"/>
          <a:stretch/>
        </p:blipFill>
        <p:spPr>
          <a:xfrm>
            <a:off x="0" y="1177920"/>
            <a:ext cx="9144000" cy="4987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484360" y="1052640"/>
            <a:ext cx="6327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зентация спецкур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Java-технологии и практики создания приложений в многоуровневой архитектуре. Мастер класс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515880" y="973080"/>
            <a:ext cx="8406000" cy="52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Aft>
                <a:spcPts val="601"/>
              </a:spcAft>
              <a:buClr>
                <a:srgbClr val="4d4d4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Типы </a:t>
            </a:r>
            <a:r>
              <a:rPr b="0" lang="en-US" sz="2000" spc="-1" strike="noStrike">
                <a:solidFill>
                  <a:srgbClr val="4d4d4d"/>
                </a:solidFill>
                <a:latin typeface="Cambria"/>
                <a:ea typeface="MS PGothic"/>
              </a:rPr>
              <a:t>корпоративных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 информационных 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Aft>
                <a:spcPts val="601"/>
              </a:spcAft>
              <a:buClr>
                <a:srgbClr val="4d4d4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mbria"/>
                <a:ea typeface="MS PGothic"/>
              </a:rPr>
              <a:t>Java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 в индустрии создания крупных КИ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Aft>
                <a:spcPts val="601"/>
              </a:spcAft>
              <a:buClr>
                <a:srgbClr val="4d4d4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Процесс разработ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Aft>
                <a:spcPts val="601"/>
              </a:spcAft>
              <a:buClr>
                <a:srgbClr val="4d4d4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Многоуровневая архитектура корпоративных прилож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Aft>
                <a:spcPts val="601"/>
              </a:spcAft>
              <a:buClr>
                <a:srgbClr val="4d4d4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Уровень бизнес-лог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Aft>
                <a:spcPts val="601"/>
              </a:spcAft>
              <a:buClr>
                <a:srgbClr val="4d4d4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Уровень представл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Aft>
                <a:spcPts val="601"/>
              </a:spcAft>
              <a:buClr>
                <a:srgbClr val="4d4d4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Уровень доступа к хранимым данны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Aft>
                <a:spcPts val="601"/>
              </a:spcAft>
              <a:buClr>
                <a:srgbClr val="4d4d4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Уровень интегр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Aft>
                <a:spcPts val="601"/>
              </a:spcAft>
              <a:buClr>
                <a:srgbClr val="4d4d4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Методики создания качественного П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4d4d4d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Разработка управляемая тестами </a:t>
            </a:r>
            <a:r>
              <a:rPr b="0" lang="en-US" sz="2000" spc="-1" strike="noStrike">
                <a:solidFill>
                  <a:srgbClr val="4d4d4d"/>
                </a:solidFill>
                <a:latin typeface="Cambria"/>
                <a:ea typeface="MS PGothic"/>
              </a:rPr>
              <a:t>(TD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4d4d4d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Чистый код. Критерии чистоты, принципы созд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4d4d4d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Рефакторин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4d4d4d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Непрерывная интегр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грамма кур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01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DED3-90B1-45E0-8060-6E9DBC6FD3DC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7" descr=""/>
          <p:cNvPicPr/>
          <p:nvPr/>
        </p:nvPicPr>
        <p:blipFill>
          <a:blip r:embed="rId2"/>
          <a:stretch/>
        </p:blipFill>
        <p:spPr>
          <a:xfrm>
            <a:off x="463680" y="4754520"/>
            <a:ext cx="8405640" cy="3054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дукты и технолог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Рисунок 5" descr="bottom_line.png"/>
          <p:cNvPicPr/>
          <p:nvPr/>
        </p:nvPicPr>
        <p:blipFill>
          <a:blip r:embed="rId3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06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3578-8E91-4D35-AD61-C8154D4D67DC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4"/>
          <a:stretch/>
        </p:blipFill>
        <p:spPr>
          <a:xfrm>
            <a:off x="1050840" y="1450800"/>
            <a:ext cx="584280" cy="1090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5"/>
          <a:stretch/>
        </p:blipFill>
        <p:spPr>
          <a:xfrm>
            <a:off x="6586560" y="1620720"/>
            <a:ext cx="1325520" cy="750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6"/>
          <a:stretch/>
        </p:blipFill>
        <p:spPr>
          <a:xfrm>
            <a:off x="3778200" y="2879640"/>
            <a:ext cx="1224000" cy="362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7"/>
          <a:stretch/>
        </p:blipFill>
        <p:spPr>
          <a:xfrm>
            <a:off x="463680" y="3639960"/>
            <a:ext cx="2033280" cy="562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"/>
          <p:cNvPicPr/>
          <p:nvPr/>
        </p:nvPicPr>
        <p:blipFill>
          <a:blip r:embed="rId8"/>
          <a:stretch/>
        </p:blipFill>
        <p:spPr>
          <a:xfrm>
            <a:off x="6591240" y="2651040"/>
            <a:ext cx="1316160" cy="817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"/>
          <p:cNvPicPr/>
          <p:nvPr/>
        </p:nvPicPr>
        <p:blipFill>
          <a:blip r:embed="rId9"/>
          <a:stretch/>
        </p:blipFill>
        <p:spPr>
          <a:xfrm>
            <a:off x="463680" y="2736720"/>
            <a:ext cx="1857240" cy="64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"/>
          <p:cNvPicPr/>
          <p:nvPr/>
        </p:nvPicPr>
        <p:blipFill>
          <a:blip r:embed="rId10"/>
          <a:stretch/>
        </p:blipFill>
        <p:spPr>
          <a:xfrm>
            <a:off x="6683400" y="3662280"/>
            <a:ext cx="1224000" cy="893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"/>
          <p:cNvPicPr/>
          <p:nvPr/>
        </p:nvPicPr>
        <p:blipFill>
          <a:blip r:embed="rId11"/>
          <a:stretch/>
        </p:blipFill>
        <p:spPr>
          <a:xfrm>
            <a:off x="3825720" y="3384720"/>
            <a:ext cx="1128960" cy="1126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"/>
          <p:cNvPicPr/>
          <p:nvPr/>
        </p:nvPicPr>
        <p:blipFill>
          <a:blip r:embed="rId12"/>
          <a:stretch/>
        </p:blipFill>
        <p:spPr>
          <a:xfrm>
            <a:off x="3551400" y="1461960"/>
            <a:ext cx="16779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414360" y="1517760"/>
            <a:ext cx="8405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  <a:ea typeface="MS PGothic"/>
              </a:rPr>
              <a:t>Первые 15 лекций Вячеслава Фе</a:t>
            </a:r>
            <a:r>
              <a:rPr b="0" lang="en-US" sz="2000" spc="-1" strike="noStrike">
                <a:solidFill>
                  <a:srgbClr val="00b050"/>
                </a:solidFill>
                <a:latin typeface="Verdana"/>
                <a:ea typeface="MS PGothic"/>
              </a:rPr>
              <a:t>c</a:t>
            </a:r>
            <a:r>
              <a:rPr b="0" lang="ru-RU" sz="2000" spc="-1" strike="noStrike">
                <a:solidFill>
                  <a:srgbClr val="00b050"/>
                </a:solidFill>
                <a:latin typeface="Verdana"/>
                <a:ea typeface="MS PGothic"/>
              </a:rPr>
              <a:t>юнова для нач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  <a:ea typeface="MS PGothic"/>
              </a:rPr>
              <a:t>http://www.javable.com/tutorials/fesunov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  <a:ea typeface="MS PGothic"/>
              </a:rPr>
              <a:t>Java 2. том 1. Основы Кей Хорстман и Гарри Корнел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Литература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20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9D45-6D5A-46F5-8B28-F368BBD84355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Рисунок_x0020_4" descr="Описание: книга Java 2. Библиотека профессионала, том 1. Основы. 8-е издание"/>
          <p:cNvPicPr/>
          <p:nvPr/>
        </p:nvPicPr>
        <p:blipFill>
          <a:blip r:embed="rId3"/>
          <a:stretch/>
        </p:blipFill>
        <p:spPr>
          <a:xfrm>
            <a:off x="539640" y="3068640"/>
            <a:ext cx="1425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опро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25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4B58-6FB5-4D9C-AFB7-763F78134B64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4162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6E65-9C36-4BBB-A188-30C4C87C8A41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1476360" y="191628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5508720" y="191628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"/>
          <p:cNvSpPr/>
          <p:nvPr/>
        </p:nvSpPr>
        <p:spPr>
          <a:xfrm>
            <a:off x="5256720" y="4076640"/>
            <a:ext cx="271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249"/>
                </a:solidFill>
                <a:latin typeface="Verdana"/>
              </a:rPr>
              <a:t>Николай Зеновки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ехнолог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уководител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уппы разработчи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enovkin@i-teco.r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1167480" y="4076640"/>
            <a:ext cx="322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249"/>
                </a:solidFill>
                <a:latin typeface="Verdana"/>
              </a:rPr>
              <a:t>Александр Лысенк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н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ущий 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зработчи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.lysenko@i-teco.r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431640" y="1844640"/>
            <a:ext cx="828072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  <a:ea typeface="MS PGothic"/>
              </a:rPr>
              <a:t>Карьера в компан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  <a:ea typeface="MS PGothic"/>
              </a:rPr>
              <a:t>Спецкур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  <a:ea typeface="MS PGothic"/>
              </a:rPr>
              <a:t>Вопро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грамма презент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517B-85B8-4731-9C27-805160A627CC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Стрелка вниз 1"/>
          <p:cNvSpPr/>
          <p:nvPr/>
        </p:nvSpPr>
        <p:spPr>
          <a:xfrm>
            <a:off x="4356000" y="2276640"/>
            <a:ext cx="360360" cy="865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b3e2a6"/>
          </a:solidFill>
          <a:ln w="25560">
            <a:solidFill>
              <a:srgbClr val="00a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Стрелка вниз 7"/>
          <p:cNvSpPr/>
          <p:nvPr/>
        </p:nvSpPr>
        <p:spPr>
          <a:xfrm>
            <a:off x="4356000" y="3645000"/>
            <a:ext cx="360360" cy="86364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b3e2a6"/>
          </a:solidFill>
          <a:ln w="25560">
            <a:solidFill>
              <a:srgbClr val="00a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 компан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6727-FF0F-4514-BFF6-446407F05DE2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1197000"/>
          <a:ext cx="8137800" cy="4708440"/>
        </p:xfrm>
        <a:graphic>
          <a:graphicData uri="http://schemas.openxmlformats.org/drawingml/2006/table">
            <a:tbl>
              <a:tblPr/>
              <a:tblGrid>
                <a:gridCol w="8137800"/>
              </a:tblGrid>
              <a:tr h="259200">
                <a:tc>
                  <a:txBody>
                    <a:bodyPr lIns="91080" rIns="91080" anchor="ctr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26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Компания «Ай-Теко» входит 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Cambria"/>
                        <a:buChar char="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mbria"/>
                        </a:rPr>
                        <a:t>ТОР5 ведущих консультационных ИТ-компаний России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Cambria"/>
                        </a:rPr>
                        <a:t>;</a:t>
                      </a: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mbri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Cambria"/>
                        <a:buChar char="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mbria"/>
                        </a:rPr>
                        <a:t>ТОР5 лучших российских поставщиков ИТ-услуг в банковском секторе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Cambria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Cambria"/>
                        <a:buChar char="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mbria"/>
                        </a:rPr>
                        <a:t>ТОР10 крупнейших отечественных системных интеграторов 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Cambria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Cambria"/>
                        <a:buChar char="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mbria"/>
                        </a:rPr>
                        <a:t>TOP10 крупнейших российских компаний в области ИКТ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Cambria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Cambria"/>
                        <a:buChar char="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mbria"/>
                        </a:rPr>
                        <a:t>ТOP200 непубличных компаний России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Cambri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a249"/>
                          </a:solidFill>
                          <a:latin typeface="Verdana"/>
                        </a:rPr>
                        <a:t>Департамент по работе с финансовыми учреждениям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mbria"/>
                        </a:rPr>
                        <a:t>Самый быстрорастущий департамент в компании по итогам 2010 года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Cambri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Клиент</a:t>
                      </a:r>
                      <a:r>
                        <a:rPr b="0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ы компании</a:t>
                      </a:r>
                      <a:r>
                        <a:rPr b="0" lang="en-US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20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Cambria"/>
                        </a:rPr>
                        <a:t>C</a:t>
                      </a: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mbria"/>
                        </a:rPr>
                        <a:t>бербанк России и другие крупные государственные и коммерческие организации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Cambri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Деятельность компан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B961-829B-4F7A-BA07-3C069258D118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324000" y="1422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Разработка ПО для банков и других финансовых организ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3"/>
          <a:stretch/>
        </p:blipFill>
        <p:spPr>
          <a:xfrm>
            <a:off x="1187280" y="1855800"/>
            <a:ext cx="651672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труктура проектной команд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71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703F-9E61-40B0-8370-BF4D4050807A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3873240" cy="4896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4356000" y="14842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Принципы проектной команд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ambri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Cambria"/>
              </a:rPr>
              <a:t>Самостоятельность на всех уровня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ambri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Cambria"/>
              </a:rPr>
              <a:t>Ответствен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ambri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Cambria"/>
              </a:rPr>
              <a:t>Планирование своих зада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ambri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Cambria"/>
              </a:rPr>
              <a:t>Обмен опытом и постоянное обуч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ambri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Cambria"/>
              </a:rPr>
              <a:t>Инициатив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9"/>
          <p:cNvSpPr/>
          <p:nvPr/>
        </p:nvSpPr>
        <p:spPr>
          <a:xfrm>
            <a:off x="404640" y="71136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Что вас ждет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77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6292-EA2B-4CD4-A458-F6BB1872D6F2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630360" y="1413000"/>
            <a:ext cx="7883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Нам нужны новые стажеры, потому что старые уже стали архитекторами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ambri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Работа в динамичной команде молодых специалис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ambri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Использование самых современных средств и методологий разработ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ambri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Интересные и сложные проек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414360" y="151776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Цели спецкур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791B-AE41-4172-8BBE-94F3DB8D5DE9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385920" y="2133720"/>
            <a:ext cx="82803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Cambri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Cambria"/>
                <a:ea typeface="MS PGothic"/>
              </a:rPr>
              <a:t>Создать уровень подготовки специалистов, соответствующий требованиям к стажёру компании «Ай-Теко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Cambri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Cambria"/>
                <a:ea typeface="MS PGothic"/>
              </a:rPr>
              <a:t>Сформировать базовый набор знаний и навыков, необходимый для создания профессионального статуса ведущего разработчика и архитектора в среднесрочной  перспектив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414360" y="151776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остав спецкур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89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AF6F-54D4-480A-A08D-FB192413AF80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414360" y="15177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  <a:ea typeface="MS PGothic"/>
              </a:rPr>
              <a:t>Теоретическая ча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Формирование базиса знаний по архитектурам, технологиям и практикам создания КИС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  <a:ea typeface="MS PGothic"/>
              </a:rPr>
              <a:t>Мастер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Демонстрация процесса разработки модельного приложения в реальном времен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  <a:ea typeface="MS PGothic"/>
              </a:rPr>
              <a:t>Практическая ча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Применение теоретических знаний в ключе решения задач компании «Ай-Теко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414360" y="1517760"/>
            <a:ext cx="8280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  <a:ea typeface="MS PGothic"/>
              </a:rPr>
              <a:t>TIOBE Programming Community Index for February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MS PGothic"/>
              </a:rPr>
              <a:t>http://www.tiobe.com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ava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лидер индекса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IOB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C48D-3BFE-4CF1-AF63-38529A332665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2" descr=""/>
          <p:cNvPicPr/>
          <p:nvPr/>
        </p:nvPicPr>
        <p:blipFill>
          <a:blip r:embed="rId3"/>
          <a:stretch/>
        </p:blipFill>
        <p:spPr>
          <a:xfrm>
            <a:off x="1619280" y="2349360"/>
            <a:ext cx="53434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7:42:44Z</dcterms:created>
  <dc:creator>shibalkov</dc:creator>
  <dc:description/>
  <dc:language>en-US</dc:language>
  <cp:lastModifiedBy>Зеновкин Николай</cp:lastModifiedBy>
  <dcterms:modified xsi:type="dcterms:W3CDTF">2011-02-28T07:49:14Z</dcterms:modified>
  <cp:revision>411</cp:revision>
  <dc:subject/>
  <dc:title>Слайд 1</dc:title>
</cp:coreProperties>
</file>