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6381-034D-4542-BBCE-A5DC69AC6E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48A3-7263-4729-B4BD-EF937240E5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2F9A-AAEC-4165-BEB6-B4705429CF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E1DD-B7A3-40CD-8B1B-571A234089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BCA1-FDC9-408C-80E7-90225A3778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527C-5467-4932-BBA4-7E11A46CFE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C9A3-7438-46B8-8953-1A952C1DA9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E9CD-65E1-4A32-BF83-1D4172634C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5CC4-EDBE-498F-B17A-1905028D3C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E968-0901-40DE-9154-37AEC5D519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A3EA-ADE8-4C63-8DF9-D327AEFBE1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B91-C175-4A08-B837-7A6A637A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1AB-FADE-4634-948C-97C10D8A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D12-08F9-4404-8180-9EF81616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3D2-B216-4B5F-BA0B-8670E18F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10B-8FC7-4B88-BDAB-72B0FD0E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B5B-86A9-490A-8C84-D5A46786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E5D-B4E1-4E81-B3C4-F4C3060F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AE7-E005-45DC-8152-B0E3BB31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6E9-EC10-45A2-88F9-05161680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679-6190-4244-A46A-84AA8BE5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4C1-3F15-43E9-94F2-E2739300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DD74-3730-43E9-9E01-C5667CF7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93DB-9F4B-44F5-8CFC-A373D3B815D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DD02-89AC-4977-B5EB-04FF24203F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ibm.com/developerworks/views/java/libraryview.jsp?search_by=crossing+borders:" TargetMode="External"/><Relationship Id="rId4" Type="http://schemas.openxmlformats.org/officeDocument/2006/relationships/hyperlink" Target="http://www.ibm.com/developerworks/views/java/libraryview.jsp?search_by=crossing+borders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ru.wikipedia.org/wiki/&#1052;&#1072;&#1094;&#1091;&#1084;&#1086;&#1090;&#1086;,_&#1070;&#1082;&#1080;&#1093;&#1080;&#1088;&#1086;" TargetMode="External"/><Relationship Id="rId4" Type="http://schemas.openxmlformats.org/officeDocument/2006/relationships/hyperlink" Target="http://ru.wikipedia.org/wiki/&#1052;&#1072;&#1094;&#1091;&#1084;&#1086;&#1090;&#1086;,_&#1070;&#1082;&#1080;&#1093;&#1080;&#1088;&#1086;" TargetMode="External"/><Relationship Id="rId5" Type="http://schemas.openxmlformats.org/officeDocument/2006/relationships/hyperlink" Target="http://ru.wikipedia.org/wiki/&#1055;&#1088;&#1072;&#1074;&#1080;&#1083;&#1086;_&#1085;&#1072;&#1080;&#1084;&#1077;&#1085;&#1100;&#1096;&#1077;&#1075;&#1086;_&#1091;&#1076;&#1080;&#1074;&#1083;&#1077;&#1085;&#1080;&#1103;" TargetMode="External"/><Relationship Id="rId6" Type="http://schemas.openxmlformats.org/officeDocument/2006/relationships/hyperlink" Target="http://ru.wikipedia.org/wiki/&#1055;&#1088;&#1086;&#1075;&#1088;&#1072;&#1084;&#1084;&#1080;&#1089;&#1090;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ru.wikipedia.org/wiki/29_&#1072;&#1074;&#1075;&#1091;&#1089;&#1090;&#1072;" TargetMode="External"/><Relationship Id="rId4" Type="http://schemas.openxmlformats.org/officeDocument/2006/relationships/hyperlink" Target="http://ru.wikipedia.org/wiki/2010_&#1075;&#1086;&#1076;" TargetMode="External"/><Relationship Id="rId5" Type="http://schemas.openxmlformats.org/officeDocument/2006/relationships/hyperlink" Target="http://ru.wikipedia.org/wiki/&#1044;&#1101;&#1074;&#1080;&#1076;_&#1061;&#1077;&#1081;&#1085;&#1077;&#1084;&#1077;&#1081;&#1077;&#1088;_&#1061;&#1072;&#1085;&#1089;&#1089;&#1086;&#1085;" TargetMode="External"/><Relationship Id="rId6" Type="http://schemas.openxmlformats.org/officeDocument/2006/relationships/hyperlink" Target="http://ru.wikipedia.org/wiki/&#1044;&#1101;&#1074;&#1080;&#1076;_&#1061;&#1077;&#1081;&#1085;&#1077;&#1084;&#1077;&#1081;&#1077;&#1088;_&#1061;&#1072;&#1085;&#1089;&#1089;&#1086;&#1085;" TargetMode="External"/><Relationship Id="rId7" Type="http://schemas.openxmlformats.org/officeDocument/2006/relationships/hyperlink" Target="http://ru.wikipedia.org/wiki/Model-View-Controller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bitnami.org/stack/rubystack" TargetMode="External"/><Relationship Id="rId4" Type="http://schemas.openxmlformats.org/officeDocument/2006/relationships/hyperlink" Target="http://www.ozon.ru/context/detail/id/3656024/#persons" TargetMode="External"/><Relationship Id="rId5" Type="http://schemas.openxmlformats.org/officeDocument/2006/relationships/hyperlink" Target="http://www.ozon.ru/context/detail/id/3656024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Рисунок1"/>
          <p:cNvPicPr/>
          <p:nvPr/>
        </p:nvPicPr>
        <p:blipFill>
          <a:blip r:embed="rId1"/>
          <a:stretch/>
        </p:blipFill>
        <p:spPr>
          <a:xfrm>
            <a:off x="0" y="1177920"/>
            <a:ext cx="9144000" cy="49878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484360" y="1052640"/>
            <a:ext cx="6327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Java-технологии и практики создания приложений в многоуровневой архитектуре. Мастер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кция 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опро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95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8E7B-9E13-442D-8816-A158B6E739EC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2484360" y="1341360"/>
            <a:ext cx="41626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98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100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F77A-01AE-47F9-AE3B-99DAF5D83B5E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3367440" y="4437000"/>
            <a:ext cx="412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249"/>
                </a:solidFill>
                <a:latin typeface="Verdana"/>
              </a:rPr>
              <a:t>Александр Лысенко</a:t>
            </a:r>
            <a:r>
              <a:rPr b="1" lang="en-US" sz="1600" spc="-1" strike="noStrike">
                <a:solidFill>
                  <a:srgbClr val="00a249"/>
                </a:solidFill>
                <a:latin typeface="Verdana"/>
              </a:rPr>
              <a:t> (a.k.a alexpetrov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не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ущий 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зработчи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.lysenko@i-teco.r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3492360" y="2133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395280" y="1773360"/>
            <a:ext cx="828036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Verdana"/>
                <a:ea typeface="MS PGothic"/>
              </a:rPr>
              <a:t>Ruby On Rails</a:t>
            </a:r>
            <a:r>
              <a:rPr b="0" lang="ru-RU" sz="2000" spc="-1" strike="noStrike">
                <a:solidFill>
                  <a:srgbClr val="00b050"/>
                </a:solidFill>
                <a:latin typeface="Verdana"/>
                <a:ea typeface="MS PGothic"/>
              </a:rPr>
              <a:t>,</a:t>
            </a:r>
            <a:r>
              <a:rPr b="0" lang="en-US" sz="2000" spc="-1" strike="noStrike">
                <a:solidFill>
                  <a:srgbClr val="00b050"/>
                </a:solidFill>
                <a:latin typeface="Verdana"/>
                <a:ea typeface="MS PGothic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Verdana"/>
                <a:ea typeface="MS PGothic"/>
              </a:rPr>
              <a:t>как иллюстрация прагматичного подх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  <a:ea typeface="MS PGothic"/>
              </a:rPr>
              <a:t>Разбор приложения интернет магази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  <a:ea typeface="MS PGothic"/>
              </a:rPr>
              <a:t>Анонс реализации приложения Интернет Банк на </a:t>
            </a:r>
            <a:r>
              <a:rPr b="0" lang="en-US" sz="2000" spc="-1" strike="noStrike">
                <a:solidFill>
                  <a:srgbClr val="00b050"/>
                </a:solidFill>
                <a:latin typeface="Verdana"/>
                <a:ea typeface="MS PGothic"/>
              </a:rPr>
              <a:t>Ruby On Rai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  <a:ea typeface="MS PGothic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  <a:ea typeface="MS PGothic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  <a:ea typeface="MS PGothic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  <a:ea typeface="MS PGothic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  <a:ea typeface="MS PGothic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  <a:ea typeface="MS PGothic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  <a:ea typeface="MS PGothic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  <a:ea typeface="MS PGothic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  <a:ea typeface="MS PGothic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Главные тем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6108-436B-42B7-9E23-CCD3B58636DE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Стрелка вниз 1"/>
          <p:cNvSpPr/>
          <p:nvPr/>
        </p:nvSpPr>
        <p:spPr>
          <a:xfrm>
            <a:off x="4214880" y="2286000"/>
            <a:ext cx="360360" cy="8650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b3e2a6"/>
          </a:solidFill>
          <a:ln w="25560">
            <a:solidFill>
              <a:srgbClr val="00a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Стрелка вниз 1"/>
          <p:cNvSpPr/>
          <p:nvPr/>
        </p:nvSpPr>
        <p:spPr>
          <a:xfrm>
            <a:off x="4211640" y="3573360"/>
            <a:ext cx="360360" cy="86544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b3e2a6"/>
          </a:solidFill>
          <a:ln w="25560">
            <a:solidFill>
              <a:srgbClr val="00a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Цели лек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60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5F7F-2C8A-4324-B28C-0D1251AD2BA9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611280" y="1413000"/>
            <a:ext cx="820872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</a:rPr>
              <a:t>Продемонстрировать основополагающие аспекты разработки веб-приложен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</a:rPr>
              <a:t>Продемонстрировать архитектурные принципы и шаблоны проектир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63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ересекая границы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Crossing border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65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B7CC-77E6-4E7E-94B6-D1795D4C0293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611280" y="1413000"/>
            <a:ext cx="820872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серии "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Пересекая границы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" ее автор Брюс Тэйт продвигает идею о том, что современные Java-программисты хорошо поступают, изучая другие подходы и языки. Панорама программирования изменилась после того, как технология Java явно стала лучшим вариантом для всех разрабатываемых проектов. Структуру Java-среды формируют и изменяют другие интегрированные системы, а концепции, с которыми вы познакомились в других языках программирования, могут усовершенствовать ваше Java-программирова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www.ibm.com/developerworks/views/java/libraryview.jsp?search_by=crossing+borders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Ruby On Rai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http://www.ibm.com/developerworks/ru/library/j-cb05096/index.htm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68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uby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- Язык программиров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70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62E6-BEE1-4DDB-A21E-F623D693F7AD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611280" y="1413000"/>
            <a:ext cx="8208720" cy="42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Год релиза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декбрь 1995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Версии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1.0 – 1996, 1.2 – 1998, 1.4 – 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1999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1.6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– 200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1.8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– 200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, 1.9 – 2007, 1.9.2 - 20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Создатель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Юкихиро Мацумото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Matz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Назначение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ние простых и в то же время понятных программ, где важна не скорость работы программы, а малое время разработки, понятность и простота синтаксис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зык следует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Verdana"/>
                <a:hlinkClick r:id="rId5"/>
              </a:rPr>
              <a:t>принципу «наименьшей неожиданности»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 программа должна вести себя так, как ожидает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Verdana"/>
                <a:hlinkClick r:id="rId6"/>
              </a:rPr>
              <a:t>программис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Отличительные черты</a:t>
            </a:r>
            <a:r>
              <a:rPr b="0" lang="en-US" sz="20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язы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Объектная ориентирован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Функциональная ориентирован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Автоматическое управление память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Динамическая типиз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Мощная поддержка метапрограммир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uby On Rails –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еб-фреймворк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75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E9A5-C052-46FB-9FB8-E790E859BE73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611280" y="1413000"/>
            <a:ext cx="820872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Год релиза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юле 2004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29 август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Verdana"/>
                <a:hlinkClick r:id="rId4"/>
              </a:rPr>
              <a:t>2010 год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вышел Rails 3.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Создатель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Дэвид Хейнемеер Ханссон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(DHH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Ruby on Rails предоставляет архитектурный образец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Verdana"/>
                <a:hlinkClick r:id="rId7"/>
              </a:rPr>
              <a:t>Model-View-Controlle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модель-представление-контроллер) для веб-приложений, а также обеспечивает их интеграцию с веб-сервером и сервером базы данны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Девиз – веб-разработка без головной боли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(web-development that doesn’t hurt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сновополагающие Принцип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Don’t Repeat Yoursel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Convention over configu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el View Controlle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C902-2027-45E8-AEBD-5FAE0BC5FBD7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3"/>
          <a:stretch/>
        </p:blipFill>
        <p:spPr>
          <a:xfrm>
            <a:off x="857160" y="2071800"/>
            <a:ext cx="72583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VC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EFA1-844E-408B-856A-EC86BEC47186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33" descr=""/>
          <p:cNvPicPr/>
          <p:nvPr/>
        </p:nvPicPr>
        <p:blipFill>
          <a:blip r:embed="rId3"/>
          <a:stretch/>
        </p:blipFill>
        <p:spPr>
          <a:xfrm>
            <a:off x="928800" y="1871640"/>
            <a:ext cx="72864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88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Материалы для обучения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90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8E6A-A999-492C-95B7-C0A7894A700C}" type="slidenum">
              <a:rPr b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611280" y="1413000"/>
            <a:ext cx="8208720" cy="44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a249"/>
                </a:solidFill>
                <a:latin typeface="Arial"/>
              </a:rPr>
              <a:t>Устано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Linux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ttp://rubydev.ru/2011/03/rdr3t-podgotovka-rabochego-mesta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indows. BitNami Ruby Stack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bitnami.org/stack/rubystack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Чтобы установить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Rails 3 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нужно выбрать версию 2.2.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a249"/>
                </a:solidFill>
                <a:latin typeface="Arial"/>
              </a:rPr>
              <a:t>Книг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Гибкая разработка веб-приложений в среде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Rail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Verdana"/>
                <a:hlinkClick r:id="rId4"/>
              </a:rPr>
              <a:t>Д. Томас, Д. Х. Хэнссо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ozon.ru/context/detail/id/3656024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gile Web Development with Rails 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(4th edi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ttp://pragprog.com/titles/rails4/agile-web-development-with-rai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http://pragprog.com/titles/rails4/source_code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код, который использовался для демонстра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a249"/>
                </a:solidFill>
                <a:latin typeface="Arial"/>
              </a:rPr>
              <a:t>Подкас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Ruby Noname Podca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http://ruby.rpod.ru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7:42:44Z</dcterms:created>
  <dc:creator>shibalkov</dc:creator>
  <dc:description/>
  <dc:language>en-US</dc:language>
  <cp:lastModifiedBy>Лысенко Александр</cp:lastModifiedBy>
  <dcterms:modified xsi:type="dcterms:W3CDTF">2011-04-14T10:31:42Z</dcterms:modified>
  <cp:revision>456</cp:revision>
  <dc:subject/>
  <dc:title>Слайд 1</dc:title>
</cp:coreProperties>
</file>