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10F-A087-4E3E-A47D-FD79DDB8B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DB37-A80E-4094-B331-D80643534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D67-A202-4587-9877-7E4DB4D779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54C-9178-4B22-B755-F1DC0D6A02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DD4C-C290-48C2-AB24-CCC141C4A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AF9-5ABC-4724-AD60-4FBE08DE40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A8A-A424-4FF8-AD4B-160F1DFF8D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08C-3E52-4567-89DD-3B1203472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8E59-F928-4772-80AB-7C49FE57B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63B0-33DB-499D-951C-7D8066E3C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3E9-EDC8-4ED8-B7C5-664903481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B00-D243-4A55-A376-CF1008D7D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F24-1F19-4F63-8FB8-B97516BA0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4D5-CA7B-41B4-A46C-81E86CAB4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41E1-7C1A-4589-83FD-35DDF3F37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3EB-6215-40C2-A251-45223D8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E0C-9743-45B1-A02A-AFDB705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211-DA4F-4244-97FD-3BFACC79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7C1-4FF6-4ABD-B342-A374F4A9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5B4-08EF-4B86-8B39-87D1A863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8DA-E305-4D39-AE7C-8E3F8CB5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A78-4C24-4ED2-BFEC-E8B0BCE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FD7-B881-4B8B-810E-F8065F6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DAD-BBF6-4C36-B61E-1B5CC3DE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1C7-09FE-4564-9C42-E9BF1C9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050-85CC-4875-B859-00627297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C7F-B307-4289-A8A0-9B927351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F6C-BD33-4E20-8BF4-0EC400245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E7A-0C20-42AF-A390-D4540A3AB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github.com/alexpetrov/Mentor-Ban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mailto:a.lysenko@i-teco.ru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xunitpatterns.com/" TargetMode="External"/><Relationship Id="rId4" Type="http://schemas.openxmlformats.org/officeDocument/2006/relationships/hyperlink" Target="http://xunitpatterns.com/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Рисунок1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84360" y="1052640"/>
            <a:ext cx="63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Java-технологии и практики создания приложений в многоуровневой архитектуре. Мастер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ция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765-127A-445F-81A2-96806C7A83D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268280"/>
          <a:ext cx="8137440" cy="33656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56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Тестовые двойни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лк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е выполнения тест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82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50920" y="3068640"/>
            <a:ext cx="48769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представ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DAF-2746-4DD9-B23C-A6EF025D3EC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268280"/>
          <a:ext cx="8137440" cy="618660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Базовые веб-техн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03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Прикладной протоко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 Text Transfer Protocol HTTP(GET, POST, PUT, DELETE, etc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Клиентские технологии</a:t>
                      </a: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, CSS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Script, Ajax, ActionScript/Fle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Серверные техн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I, Servlet, J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7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представ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027-613B-476C-8974-17AB1EE7112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268280"/>
          <a:ext cx="8137440" cy="466272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Архитектурный шаблон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Model View Contro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09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воляет разделить данные, представление и обработку действ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ователя на три отдельных компон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(Model). Модель предоставляет данные (обычно для View), а также реагирует на запросы (обычно от контроллера), изменяя своё состоя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(View). Отвечает за отображение информации (пользовательский интерфейс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(Controller). Интерпретирует данные, введённые пользователем, и информирует модель и представление о необходимости соответствующей реакци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56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27280" y="3933720"/>
            <a:ext cx="3514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Как сдавать практические зад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CC5-DBBF-4B54-8CA3-D645E8BA049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268280"/>
          <a:ext cx="8137440" cy="78771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Основные шаги для сдачи практических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86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ст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hub.com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win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ysgit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внём не отображаются русские букв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http://help.github.com/win-set-up-git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S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инструкции 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h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k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petrov/Mentor-Bank (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http://github.com/alexpetrov/Mentor-Ban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нструкц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ttp://help.github.com/pull-requests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ать свои доработки проекта в своей копии репозитари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а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в исход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оверю, дам комментарии и рекомендации по доработке и приму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ство п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http://www-cs-students.stanford.edu/~blynn/gitmagic/intl/ru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ая шпаргалака п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 http://help.github.com/git-cheat-sheets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240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ED5B-DC5E-4A4B-83E4-4229B1AD4F1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16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B5C-132B-411C-A0E4-0BB9C21A41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088440" y="4437000"/>
            <a:ext cx="32212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Александр Лысен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зработч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.lysenko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349236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395280" y="1773360"/>
            <a:ext cx="82803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Уровень бизнес логики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родолжение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Базовые веб-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Реализация веб-слоя приложения Интернет Ба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Главные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E340-8FB0-4F59-845C-E9DCE619D19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"/>
          <p:cNvSpPr/>
          <p:nvPr/>
        </p:nvSpPr>
        <p:spPr>
          <a:xfrm>
            <a:off x="4211640" y="2205000"/>
            <a:ext cx="360360" cy="865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1"/>
          <p:cNvSpPr/>
          <p:nvPr/>
        </p:nvSpPr>
        <p:spPr>
          <a:xfrm>
            <a:off x="4211640" y="3573360"/>
            <a:ext cx="360360" cy="865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5DD9-2DBD-4C83-AEDE-B8910C2214D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692280"/>
          <a:ext cx="8137440" cy="31352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5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Архитектура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pring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7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92360" y="2133720"/>
            <a:ext cx="5295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9B1-4C24-4B09-A3B5-EDD1B343392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692280"/>
          <a:ext cx="8137440" cy="31352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5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Архитектура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pring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7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92360" y="2133720"/>
            <a:ext cx="5295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267-1081-405E-9754-EF62166AD1A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692280"/>
          <a:ext cx="8137440" cy="31352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5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Архитектура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Spring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InversionOfControl conta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7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92360" y="2421000"/>
            <a:ext cx="4743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2DA-D810-4546-8FBF-C1E089530D3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981000"/>
          <a:ext cx="8137440" cy="33051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84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Тестовые двойн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Double (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/>
                        </a:rPr>
                        <a:t>http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/>
                        </a:rPr>
                        <a:t>xunitpatterns.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уш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b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опосредованного ввод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Шпио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опосредованного вывод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лк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ke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е тесто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-знач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7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124000" y="2924280"/>
            <a:ext cx="5058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8191-85C9-44B3-ABC8-A13F564FE6D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97000"/>
          <a:ext cx="8137800" cy="379260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55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Тестовые двойни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ушк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опосредованного ввод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82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24000" y="2924280"/>
            <a:ext cx="491508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C04-6FAD-4088-B997-7002496D4F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268280"/>
          <a:ext cx="8137440" cy="33656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56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Тестовые двойни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опосредованного вывод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82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63640" y="2997360"/>
            <a:ext cx="5019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ровень бизнес-логики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6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5D3-5C93-4E6B-8DE1-CB0E7DBB354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137440" cy="336564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56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Тестовые двойни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пион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ирование опосредованного вывод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824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5019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42:44Z</dcterms:created>
  <dc:creator>shibalkov</dc:creator>
  <dc:description/>
  <dc:language>en-US</dc:language>
  <cp:lastModifiedBy>a.lysenko</cp:lastModifiedBy>
  <dcterms:modified xsi:type="dcterms:W3CDTF">2011-03-31T07:08:52Z</dcterms:modified>
  <cp:revision>429</cp:revision>
  <dc:subject/>
  <dc:title>Слайд 1</dc:title>
</cp:coreProperties>
</file>