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F004-A67C-4F0E-8310-DF9E7CB102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F61D-90A5-427F-8EB7-43097E292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656B-033B-41F4-AA0E-DEFA6FEE97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54AE-8138-478B-9F4C-6410D19595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5806-62F7-4FEF-863B-1F70134F1A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417C-9BAD-4C81-AE5D-EA43AE39A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C776-6F9F-457A-BAD2-B8080DD64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213C-B277-4706-A71F-3BAF6AD84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75D2-4975-4FD6-82C2-CC2C55CCA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E410-7157-4E8E-8DBF-0C0BF9145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2763-0822-4C61-BBC3-590321D6D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7D14-D4FC-4D45-B57F-4DA127C35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D1CB-DBCE-41D5-A6D6-286D06040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25D-7D14-4D58-8EDC-3CD28F56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A75-CF90-4C4F-B316-83973B32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18E-F608-4B04-BA8E-C9C1F133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461-420D-4642-86DE-2A6DF011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50C-63EF-4324-9C88-D27F622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C15-39FD-4183-BBFD-7567846A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AAB-8A60-4D27-97CA-0CE602D4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5EC-2DFE-4051-AB20-A245ABB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976-F16B-4E70-A43A-D0FC8821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AC1-90F0-4CC2-92E2-358478E8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28C-BBD9-4146-B0B3-F213AF3C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FA2-66DE-44D6-A0EC-2ED38FC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EE3C-258B-4F64-AAE7-FA2626FDB2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B9B-1878-4D3B-866A-C764813FA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Рисунок1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4987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484360" y="1052640"/>
            <a:ext cx="632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Java-технологии и практики создания приложений в многоуровневой архитектуре. Мастер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ция №2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96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Уровень интегр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0CF9-09F5-4ED3-B243-B438EE4F707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14360" y="1517760"/>
            <a:ext cx="828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Ответств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заимодействие между различными прилож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Архитектурные шабл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Архитектурный стиль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S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Service Provider/Service Consu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Loose coupling/High cohe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Асинхронное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заимодействие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Publish Subscribe / Point To Poi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MOM (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essage Oriented Middelware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JMS (Spring JMS) EJB Message Driven Beans (Active MQ, WebSphere MQ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еб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ервисы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SOAP vs 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ESB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Enterprise Service 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TL Extract Transform Lo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Обзор модельного прило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8561-6F65-4FC7-BC18-571017C774E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14360" y="151776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Треб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Архитект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опро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1EB4-F224-4ABF-964E-B71167BC8D9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4162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4256-5118-4826-8BCE-F3949BFF93F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088440" y="4437000"/>
            <a:ext cx="32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249"/>
                </a:solidFill>
                <a:latin typeface="Verdana"/>
              </a:rPr>
              <a:t>Александр Лысенк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н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ущий 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зработч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.lysenko@i-teco.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349236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395280" y="2349360"/>
            <a:ext cx="82803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Многоуровневая архитектура корпоративных прилож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Обзор модельного прило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Главные те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4F2F-78A8-4DE6-B85F-A7B370AE781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Стрелка вниз 1"/>
          <p:cNvSpPr/>
          <p:nvPr/>
        </p:nvSpPr>
        <p:spPr>
          <a:xfrm>
            <a:off x="4284720" y="2852640"/>
            <a:ext cx="360360" cy="8654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Историческая перспекти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F6C2-2F78-4435-9238-97974B7588F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125360"/>
          <a:ext cx="8137800" cy="3798720"/>
        </p:xfrm>
        <a:graphic>
          <a:graphicData uri="http://schemas.openxmlformats.org/drawingml/2006/table">
            <a:tbl>
              <a:tblPr/>
              <a:tblGrid>
                <a:gridCol w="813780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988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уровневая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йнфрей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хуровневая клиент-серв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хуровнев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уровне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уровневая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Мотивы разделения на уровн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9404-8885-4602-8047-7814A7C43E5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14360" y="1517760"/>
            <a:ext cx="828036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Физ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Централизация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бизнес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-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л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4d4d4d"/>
              </a:buClr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Балансировка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нагруз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4d4d4d"/>
              </a:buClr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Защи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Управление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транзакциями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(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В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том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числе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распределёнными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Управление слож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</a:rPr>
              <a:t>Облегчение тестирования и внесения изменений</a:t>
            </a: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Тенден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2DC2-E071-423E-B901-D368B64404C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14360" y="1517760"/>
            <a:ext cx="84056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Постепенное снижение значимости разделения на физические уровни за счёт передачи ответственности за масштабируемость на уровень инфраструктур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чные вычисл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aS (Google App Engine, Heroku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aS (Amazon, RackSp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Повышение степени интеграции между логическими уровнями в архитектурных каркасах на базе языков без статического контроля, за счёт метапрограммирования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On Rails, Groovy On Grails, Django, Web2P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s(C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Уровн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22FB-BDAA-4B3E-9AB0-C79C7C66614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414360" y="1517760"/>
            <a:ext cx="828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Уровень представ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Уровень бизнес-л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Уровень доступа к хранимым данны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Уровень интеграции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Стрелка вниз 1"/>
          <p:cNvSpPr/>
          <p:nvPr/>
        </p:nvSpPr>
        <p:spPr>
          <a:xfrm>
            <a:off x="3635280" y="1916280"/>
            <a:ext cx="360360" cy="865080"/>
          </a:xfrm>
          <a:prstGeom prst="downArrow">
            <a:avLst>
              <a:gd name="adj1" fmla="val 39204"/>
              <a:gd name="adj2" fmla="val 49779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Стрелка вниз 1"/>
          <p:cNvSpPr/>
          <p:nvPr/>
        </p:nvSpPr>
        <p:spPr>
          <a:xfrm>
            <a:off x="3708360" y="3141720"/>
            <a:ext cx="360360" cy="865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Стрелка вниз 1"/>
          <p:cNvSpPr/>
          <p:nvPr/>
        </p:nvSpPr>
        <p:spPr>
          <a:xfrm rot="10800000">
            <a:off x="5148000" y="1915920"/>
            <a:ext cx="360360" cy="865080"/>
          </a:xfrm>
          <a:prstGeom prst="downArrow">
            <a:avLst>
              <a:gd name="adj1" fmla="val 39204"/>
              <a:gd name="adj2" fmla="val 49779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Стрелка вниз 1"/>
          <p:cNvSpPr/>
          <p:nvPr/>
        </p:nvSpPr>
        <p:spPr>
          <a:xfrm rot="10800000">
            <a:off x="5148000" y="3141360"/>
            <a:ext cx="360360" cy="865080"/>
          </a:xfrm>
          <a:prstGeom prst="downArrow">
            <a:avLst>
              <a:gd name="adj1" fmla="val 39204"/>
              <a:gd name="adj2" fmla="val 49779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Уровень представ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684E-2D82-42FF-B6A6-85A166346FB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14360" y="1517760"/>
            <a:ext cx="828036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Ответств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Отображение моде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Управление диалогом с пользователем и внешними систем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Архитектурные шабл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odel View Controller MV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Уровень бизнес логи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66DE-7D6B-4B04-8280-84DDB0D4B95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95280" y="1341360"/>
            <a:ext cx="828036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Ответств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Реализация бизнес л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Архитектурные шабл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ценарий транзак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Модель предметной обла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Модуль таблиц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CORBA (IDL, IIO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OJO (Plain Old Java Objects)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ростые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java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объек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JB 2.1,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3.0 Session Beans, Message Driven Be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Spring Framework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oC (Inversion Of Contro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AOP (Aspect Oriented Programming) модуляризация ортогональных областей отвествен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Сервер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</a:rPr>
              <a:t>а приложений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BM WebSphere, Oracle/BEA Weblogic, Redhat JBo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Cambria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Уровень доступа к дан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9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FC2E-C49D-4578-A0FB-E83EAA7E613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14360" y="1517760"/>
            <a:ext cx="828036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Ответств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Абстрагирование уровня бизнес логики от деталей долговременного хранения бизнес да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Архитектурные шабл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Table Data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Active Rec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Data Mapp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JDBC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vs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Spring JDBC A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JB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2.1 Entity Beans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Распределённый слой данных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EJB 3.0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JPA Hibernate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opLink iBatis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(ORM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Объектно Реляционное Отображение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42:44Z</dcterms:created>
  <dc:creator>shibalkov</dc:creator>
  <dc:description/>
  <dc:language>en-US</dc:language>
  <cp:lastModifiedBy>Александр</cp:lastModifiedBy>
  <dcterms:modified xsi:type="dcterms:W3CDTF">2011-03-09T22:32:59Z</dcterms:modified>
  <cp:revision>423</cp:revision>
  <dc:subject/>
  <dc:title>Слайд 1</dc:title>
</cp:coreProperties>
</file>