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4FD3-86BB-4CA1-8691-18597FC5E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71B-BCBE-4031-B1CB-999878BF2C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57F7-F3FB-4047-842B-773CEB6FF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D07-04A3-4251-9A18-64E9910A2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CB9-A345-452E-AA2A-A8A4610057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37F-DDB1-40FC-BF76-CFB5F4501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9393-ACA7-497D-B7DD-C46941B897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8175-2DA6-4932-AE76-3FDE28A629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5CD8-11C9-44B5-A6E9-0EC888FB10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FDF-FBF4-451E-BADF-85B767C3E1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E46-4291-447E-80E0-24108EAD8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685D-2A06-466C-9260-048F0CD25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78EF-EDD3-4769-A8E2-18E8F7A58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166-9EBD-4AA4-A280-390AADDE16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33A0-0EA1-4195-8F67-FDB77B1D23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D23F-0D1D-499D-9321-2474ABAC81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1FF-F732-4736-B56A-A29A5FC2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F69-B4DA-4E1D-A9FA-03F2F3D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49E-FB7B-461C-ACB6-37D9D69C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2FF-86B8-4357-B153-81F3E4D3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F41-35D6-4783-AF8C-A01C884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248-8558-4685-BF0E-E597AA3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D3D-34C4-4DEF-A9F6-F656AA6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878-44EC-43E1-9BF6-D0569B1B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D87-F0EB-4DDB-9D8C-D2AEA92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ECC-50E9-4C51-9E3D-35A1792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1F1-9F49-4777-8D3A-A33567F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AA5-F9B8-4408-906B-F022AC7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493-8F41-4E42-AB9D-A274705FDB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7D02-FDFF-4CE6-8D55-7ED90F48F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Рисунок1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9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484360" y="1052640"/>
            <a:ext cx="63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Java-технологии и практики создания приложений в многоуровневой архитектуре. Мастер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ция №1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скадная модель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93A-3888-4092-BF2B-DA7B91A226D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59338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ile Manife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D875-7F2B-4855-96CF-52F39E6F8AA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11280" y="1773360"/>
            <a:ext cx="820872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Мы находим лучшие подходы к разработке ПО, непосредственно участвуя в процессе разработки и помогая другим. В процессе работы мы пришли к тому, что для нас </a:t>
            </a:r>
            <a:r>
              <a:rPr b="1" i="1" lang="ru-RU" sz="1600" spc="-1" strike="noStrike">
                <a:solidFill>
                  <a:srgbClr val="4d4d4d"/>
                </a:solidFill>
                <a:latin typeface="Arial"/>
              </a:rPr>
              <a:t>важнее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 и их взаимодействие, чем процессы и сред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е ПО, чем исчерпывающая документац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с заказчиком, чем обсуждение условий контракт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гирование на изменения, чем следование плану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То есть, мы не ставим под сомнение важность пунктов справа, в то же время для нас гораздо важнее записанное слева. ©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ile Manifest: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ополагающие принцип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AF09-27E2-4895-B33C-8DF9F477662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611280" y="1341360"/>
            <a:ext cx="8208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высшим приоритетом для нас является удовлетворенность заказчика ранними и периодическими поставками ценного для заказчика ПО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етствуйте изменения требований даже на поздних этапах разработки. Agile-процессы готовы к таким изменениям ради достижения заказчиком конкурентного преимущ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яйте частые поставки работающего ПО. При этом продолжительность каждой итерации должна быть от пары недель до пары месяцев, предпочтение отдается коротким интервала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енциальные пользователи системы, являющиеся специалистами в предметной области, и разработчики должны работать вместе каждый день на протяжении всего проект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лекайте для работы над проектом мотивированных людей. Создайте для них все условия, окажите поддержку во всем, что необходимо, и доверьтесь им – они выполнят рабо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ый действенный и эффективный способ обмена информацией как внутри команды разработчиков, так и разработчиков с внешним миром – непосредственное обще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отающее ПО – главный индикатор продвижения проект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gile-процессы придерживаются равномерного темпа разработки. Работа спонсоров, разработчиков и пользователей должна все время идти в постоянном темп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оянное стремление к техническому совершенству и хороший дизайн системы повышают agility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жна простота – искусство увеличения объема работ, которых удалось избежать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ые лучшие архитектуры, требования и дизайны систем создаются самоорганизующимися команд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иодически команда размышляет о том, как достичь большей эффективности, после чего корректирует свой подход к разработке ПО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актики создания качественного П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B8F-3782-4689-9997-329190B4AFB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11280" y="162864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оздание «чистого» кода и поддержание «чистот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ефактор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est Driven Development (TD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Автоматическая сборка прилож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Непрерывная интегр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именение уместных шаблонов проект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актики создания качественного П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9B7-E955-425F-A17D-D6837765F79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611280" y="1773360"/>
            <a:ext cx="820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Чистый код. Критерии и принципы соз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Y Don’t Repeat Yourse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RP Single Responsibility Princi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Разделение уровней абстрак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одержательные им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Яс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про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57E4-1B22-47EF-B017-2E56E3D2E8E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416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F77E-29DF-4A68-97DA-724B4B9B69E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3088440" y="4437000"/>
            <a:ext cx="32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249"/>
                </a:solidFill>
                <a:latin typeface="Verdana"/>
              </a:rPr>
              <a:t>Александр Лысен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ущий 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зработч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.lysenko@i-teco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49236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68360" y="1484280"/>
            <a:ext cx="828036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Типы корпоративных прилож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Java в индустрии создания корпоративных приложений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роцесс разработ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рактики создания качественного П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Главные те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8CA2-2754-4D42-B146-4A1B05B57C1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"/>
          <p:cNvSpPr/>
          <p:nvPr/>
        </p:nvSpPr>
        <p:spPr>
          <a:xfrm>
            <a:off x="4284720" y="1916280"/>
            <a:ext cx="360360" cy="865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Стрелка вниз 7"/>
          <p:cNvSpPr/>
          <p:nvPr/>
        </p:nvSpPr>
        <p:spPr>
          <a:xfrm>
            <a:off x="4284720" y="3284640"/>
            <a:ext cx="360360" cy="86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Стрелка вниз 1"/>
          <p:cNvSpPr/>
          <p:nvPr/>
        </p:nvSpPr>
        <p:spPr>
          <a:xfrm>
            <a:off x="4284720" y="4724280"/>
            <a:ext cx="360360" cy="865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3e2a6"/>
          </a:solidFill>
          <a:ln w="25560">
            <a:solidFill>
              <a:srgbClr val="00a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Типы корпоративных прилож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4A52-28C0-472E-B233-AA0DE17271F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557360"/>
          <a:ext cx="8137800" cy="407016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13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АРМ Операторов обслуживающих бизнес 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ортал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Business to Employee (B2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ортал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Business to Customer (B2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Интеграционные шин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Business to Business (B2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lient Relationship Management (CRM) 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истем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тратеги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nterprise Resource Planning (ERP) 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истем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тратеги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roduct Lifecycle Management (PLM) 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истем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тратеги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риложения для взаимодействия между сотрудниками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электронная почта,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wiki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, блоги, мессенджеры, социальные сети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Интеграционные шины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nterprise Service Bus (ES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Типы корпоративных прилож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543-1265-4ABA-A75D-C79805EDE9B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11280" y="1484280"/>
          <a:ext cx="8137440" cy="45561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Классификация по уровню повторного исполь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17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Универсальные приложения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Могут предоставляться как 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a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914400" indent="-45720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M (salesforce.com), ABS(Diasoft, RS Bank), Human Resources, Project Management (Basecam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риложения построенные на платформе</a:t>
                      </a: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унифицированных компон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914400" indent="-45720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RP</a:t>
                      </a: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(SAP, 1C </a:t>
                      </a: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редприятие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), P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Заказные приложения под специфические требования конкретного заказч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914400" indent="-457200">
                        <a:lnSpc>
                          <a:spcPct val="100000"/>
                        </a:lnSpc>
                        <a:buClr>
                          <a:srgbClr val="4d4d4d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В ЦКБИТ разрабатываются преимущественно такие при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Деятельность компа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A242-FDBE-4710-8D11-FDB0A49DAF3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24000" y="1422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Разработка ПО для банков и других финансовых организ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1187280" y="1855800"/>
            <a:ext cx="651672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395280" y="54936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Java</a:t>
            </a:r>
            <a:r>
              <a:rPr b="0" lang="ru-RU" sz="11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индустрии создания корпоративных прилож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F2D-9C47-49B6-8D3C-3D18509C1AE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11280" y="1413000"/>
            <a:ext cx="82087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Год релиза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23 мая 1995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ерсии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.0 – 1996, 1.2 – 1998, 1.4 – 2002, 5.0 – 2004,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.0 - 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оздатель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Джеймс Гослин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значение – бытовы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электронны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устройств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Девиз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: Write Ones Run Everywere (Write Ones Debug Everywere</a:t>
            </a:r>
            <a:r>
              <a:rPr b="0" lang="en-US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личительные черты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язы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Объектная ориентирован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Автоматическое управление памя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Статическая тип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Отличительные черты платфор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Кросплатформен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JIT </a:t>
            </a:r>
            <a:r>
              <a:rPr b="0" lang="ru-RU" sz="1800" spc="-1" strike="noStrike">
                <a:solidFill>
                  <a:srgbClr val="4d4d4d"/>
                </a:solidFill>
                <a:latin typeface="Times New Roman"/>
              </a:rPr>
              <a:t>Компиля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Редак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2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2EE (1999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2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468360" y="1268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TIOBE Programming Community Index for 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  <a:ea typeface="MS PGothic"/>
              </a:rPr>
              <a:t>March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  <a:ea typeface="MS PGothic"/>
              </a:rPr>
              <a:t>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ttp://www.tiobe.com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ava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лидер индекса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IO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0F76-BE4D-4F12-A021-7B50F08F563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63640" y="1916280"/>
            <a:ext cx="5715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395280" y="54936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Java</a:t>
            </a:r>
            <a:r>
              <a:rPr b="0" lang="ru-RU" sz="11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индустрии создания корпоративных прилож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D3F-ADAC-4D2B-B317-E7F916C696E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11280" y="1773360"/>
            <a:ext cx="820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ричины популярности 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Java </a:t>
            </a: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платформы в </a:t>
            </a:r>
            <a:r>
              <a:rPr b="0" lang="en-US" sz="2000" spc="-1" strike="noStrike">
                <a:solidFill>
                  <a:srgbClr val="00b050"/>
                </a:solidFill>
                <a:latin typeface="Verdana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ервая платформа в рамках которой была реализована распределённая компонентная модель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terprise Java Beans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1999 году в рамках редакции и стандарта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J2EE (JavaE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россплатформ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дё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up1.pn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414360" y="71424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цесс разработ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Рисунок 5" descr="bottom_line.png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7"/>
          <p:cNvSpPr/>
          <p:nvPr/>
        </p:nvSpPr>
        <p:spPr>
          <a:xfrm>
            <a:off x="8631360" y="628668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00B-E777-46E7-BC26-6EFEAF68213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611280" y="1773360"/>
            <a:ext cx="82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Verdana"/>
              </a:rPr>
              <a:t>Модели процесса разработ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аскадная модель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состоятельна при изменчивых требованиях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теративная модель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Unified Pro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520" indent="-20952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gile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мето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42:44Z</dcterms:created>
  <dc:creator>shibalkov</dc:creator>
  <dc:description/>
  <dc:language>en-US</dc:language>
  <cp:lastModifiedBy>Александр</cp:lastModifiedBy>
  <dcterms:modified xsi:type="dcterms:W3CDTF">2011-03-09T20:57:49Z</dcterms:modified>
  <cp:revision>429</cp:revision>
  <dc:subject/>
  <dc:title>Слайд 1</dc:title>
</cp:coreProperties>
</file>